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6F1-51B9-4520-9CEE-24DDD44A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9E5-99F5-4DB1-8408-99E0021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D81-F410-4FC0-AB7F-D5D4E8E3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4B9-3AC8-4930-B823-78A731D0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9BF-156F-4438-A997-5CACA7F5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572F-E1C6-4707-9D75-1EB7DBF0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24A4-3980-4536-91A7-52D62BAA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E3D2-C044-431E-B929-8C4429D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4B8-407A-455F-8DB3-2ED1A119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E56-6785-490A-9281-81115BC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EB9-E992-4484-8A7F-D9A9C57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22A-0459-48F1-8805-C3D79A7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794-D00E-4E5E-AE6A-3C27577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D1C7-C002-40B2-935C-7BEEF40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BDE9-DC3B-4B9D-A863-C4656B0C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8395-83C7-439B-AB92-B8892E31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2A6-E5C4-4627-AF19-6D6C07BC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714-E429-42A5-A515-2B59E06D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B13-F300-4028-A9B3-8566A5D8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F16-A2AC-4DE1-B689-1E5D23BA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942-4B7D-40EC-A86B-A876144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8B9-4062-4438-915B-58C2BDC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64A-B7B3-489F-B614-D5C71C6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CDC-2043-4038-BFAF-08A791A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34A-39EB-401F-A910-B53CA60DE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A62B-C9C5-482A-A376-332BA776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ne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han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or Stell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eriod:  Portfolio optimization is done only at the beginning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ty in stock returns:  Upside and downside are symmetr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the standard Utility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(average upside return + average downside return) + RAP * upside variance - RAP * downsid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hort se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228600"/>
          <a:ext cx="8305920" cy="65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5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228600"/>
          <a:ext cx="8153280" cy="65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15328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risk and return approach scored the highest return with 5.54% beating the benchmark sector return by about 1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n annualized basis, the performance is gre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after-tax adjusted basis, this portfolio beat the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4280" y="24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81200" y="304920"/>
          <a:ext cx="8362800" cy="63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04920"/>
                    <a:ext cx="83628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ector of S&amp;P500 has been difficult to man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etrics like P/E and expected growth are not applicable to these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approach to managing this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rtfolio of technology stocks with greater upside and smaller downside relative to the benchmark (S&amp;P Tech Inde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difference between upside return and downside retu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standard deviation of upside return and decrease the standard deviation of downside re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Focus on the Technology Sec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one of the largest sectors in the overall S&amp;P500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xcluding this sector a portfolio manager would not benefit from gains should tech stocks do well, and diversification would be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wildly volatile and therefore needs careful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metrics such as ROE, P/E, Growth Rates, and DCF models have generated nonsensical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advantage will arise if a better methodology is disco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mpile daily returns of the S&amp;P Technology Sector stocks (Currently 80 st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“survivorship bias” we chose 9/19/2000 (latest date for which all 80 stocks have retur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lack of data, daily returns were used in lieu of month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imul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conomy - not enough historical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ti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returns and standard deviation would be unstable due to heavy fluctuation of daily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estimates of parameters will change wildly from day to day, portfolio optimization will be difficult leading to higher transaction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we need to simulate the returns from past data to create “smoothed” more stable parameter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s po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posi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upside retur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n neg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nega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downsid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risk and correlation structure of tech st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variance-covariance matrix on the time series of upside and downsid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culation is done over a 30 day period and rolled forward by one day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linear optimization, create optimal portfol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he estimated parameters with an Objectiv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Mean - RAP * variance (Markowi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version Parameter = 0.4668 (Shar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0:58:25Z</dcterms:created>
  <dc:creator>JungWon Lee</dc:creator>
  <dc:description/>
  <dc:language>en-US</dc:language>
  <cp:lastModifiedBy>Victor Stellakis</cp:lastModifiedBy>
  <dcterms:modified xsi:type="dcterms:W3CDTF">2002-05-01T15:45:46Z</dcterms:modified>
  <cp:revision>39</cp:revision>
  <dc:subject/>
  <dc:title>Portfolio Optimization</dc:title>
</cp:coreProperties>
</file>